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CE6-D4E1-4026-BB1D-379148D28B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8317-63D3-4368-9F85-7718F175A4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a fede nella percezione,persino quando essa è in conflitto con il pensiero, è una delle differenze tra bambini e adul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D0F-47A3-42C5-AE2C-589FEF9F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04F-DEA4-412A-8F04-F7086B0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021-3353-40BB-8B36-846BF67A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798-4531-4A66-9FBE-7B989F58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601-DD33-4DBC-AFE5-1DF5160C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3D6-93A0-47DD-8A4E-73F9CE5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FD4-D159-4214-8FBE-4A94FD66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E94-48C3-4415-8E8F-29317F0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1AE-D00B-46CD-9E92-D38346E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691-8EB5-4250-87CF-B5FFF01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7BF-533E-4E6E-9E78-8F3D594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F5B-27DC-4D90-B85D-7B2DF23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6DD3-B669-455D-9390-BE1799C7411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6600"/>
                </a:solidFill>
                <a:latin typeface="Goudy Stout"/>
              </a:rPr>
              <a:t>PIAG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99"/>
                </a:solidFill>
                <a:latin typeface="Maiandra GD"/>
              </a:rPr>
              <a:t>CONSIDERA IL BAMBINO UN INDIVIDUO ATTIVO SELETTORE E COSTRUTTORE DI ESPERIENZA NON RECETTORE PASS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15"/>
          <p:cNvSpPr/>
          <p:nvPr/>
        </p:nvSpPr>
        <p:spPr>
          <a:xfrm>
            <a:off x="2340000" y="3860640"/>
            <a:ext cx="576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763640" y="3933720"/>
            <a:ext cx="576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332000" y="2276640"/>
            <a:ext cx="2808360" cy="2736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1332000" y="386064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484360" y="371628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059280" y="3789360"/>
            <a:ext cx="57600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908000" y="378936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1619280" y="4076640"/>
            <a:ext cx="57636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3564000" y="400536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9"/>
          <p:cNvSpPr/>
          <p:nvPr/>
        </p:nvSpPr>
        <p:spPr>
          <a:xfrm>
            <a:off x="2771640" y="4005360"/>
            <a:ext cx="57636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3276720" y="407664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3276720" y="436572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3"/>
          <p:cNvSpPr/>
          <p:nvPr/>
        </p:nvSpPr>
        <p:spPr>
          <a:xfrm>
            <a:off x="2268360" y="386064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1332000" y="4221000"/>
            <a:ext cx="576000" cy="50508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2124000" y="414972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1835280" y="443700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556000" y="4221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2843280" y="443700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7"/>
          <p:cNvSpPr/>
          <p:nvPr/>
        </p:nvSpPr>
        <p:spPr>
          <a:xfrm>
            <a:off x="2340000" y="450864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5076720" y="242100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5292720" y="191628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ad un bambino di 5 anni viene mostrata una serie di palline di legno,8 gialle e 8 marroni,egli dirà che ci sono più palline marroni poiché non è capace di classificare in gerarch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660600" y="950760"/>
            <a:ext cx="3719160" cy="4811400"/>
            <a:chOff x="660600" y="950760"/>
            <a:chExt cx="3719160" cy="4811400"/>
          </a:xfrm>
        </p:grpSpPr>
        <p:sp>
          <p:nvSpPr>
            <p:cNvPr id="116" name="AutoShape 11"/>
            <p:cNvSpPr/>
            <p:nvPr/>
          </p:nvSpPr>
          <p:spPr>
            <a:xfrm rot="19488000">
              <a:off x="2124000" y="691920"/>
              <a:ext cx="792360" cy="5329080"/>
            </a:xfrm>
            <a:prstGeom prst="can">
              <a:avLst>
                <a:gd name="adj" fmla="val 25000"/>
              </a:avLst>
            </a:prstGeom>
            <a:solidFill>
              <a:srgbClr val="d9edef"/>
            </a:solidFill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2"/>
            <p:cNvSpPr/>
            <p:nvPr/>
          </p:nvSpPr>
          <p:spPr>
            <a:xfrm>
              <a:off x="3564000" y="4940280"/>
              <a:ext cx="576360" cy="5756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>
              <a:off x="2989440" y="4003560"/>
              <a:ext cx="576000" cy="5760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4"/>
            <p:cNvSpPr/>
            <p:nvPr/>
          </p:nvSpPr>
          <p:spPr>
            <a:xfrm>
              <a:off x="3205080" y="4508280"/>
              <a:ext cx="576360" cy="57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5445720" y="791280"/>
            <a:ext cx="1971360" cy="5370480"/>
            <a:chOff x="5445720" y="791280"/>
            <a:chExt cx="1971360" cy="5370480"/>
          </a:xfrm>
        </p:grpSpPr>
        <p:sp>
          <p:nvSpPr>
            <p:cNvPr id="121" name="AutoShape 17"/>
            <p:cNvSpPr/>
            <p:nvPr/>
          </p:nvSpPr>
          <p:spPr>
            <a:xfrm rot="11580000">
              <a:off x="6035400" y="811800"/>
              <a:ext cx="792000" cy="5329080"/>
            </a:xfrm>
            <a:prstGeom prst="can">
              <a:avLst>
                <a:gd name="adj" fmla="val 25000"/>
              </a:avLst>
            </a:prstGeom>
            <a:solidFill>
              <a:srgbClr val="d9edef"/>
            </a:solidFill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 rot="13692000">
              <a:off x="5954040" y="4257000"/>
              <a:ext cx="576360" cy="5760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9"/>
            <p:cNvSpPr/>
            <p:nvPr/>
          </p:nvSpPr>
          <p:spPr>
            <a:xfrm rot="13692000">
              <a:off x="5661000" y="5418720"/>
              <a:ext cx="576360" cy="576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0"/>
            <p:cNvSpPr/>
            <p:nvPr/>
          </p:nvSpPr>
          <p:spPr>
            <a:xfrm rot="13692000">
              <a:off x="5682240" y="4803480"/>
              <a:ext cx="576360" cy="576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22"/>
          <p:cNvSpPr/>
          <p:nvPr/>
        </p:nvSpPr>
        <p:spPr>
          <a:xfrm>
            <a:off x="3132000" y="1052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ubo viene ruotato, il bambino deve prevedere l’ordine delle pal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324000" y="6165720"/>
            <a:ext cx="69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179280" y="4869000"/>
            <a:ext cx="37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ambino non è in grado di immaginare la rot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lui la logica che lo governa è meno dominante,è facilmente influenza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OPERAZIONI CONCRE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7 – 11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Il bambino passa da un pensiero pre-logico a quello logico applicato ad oggetti ed eventi reali e concre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Comparsa della capacità di conservare, di classificare, di ordinare in se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73"/>
          <p:cNvGrpSpPr/>
          <p:nvPr/>
        </p:nvGrpSpPr>
        <p:grpSpPr>
          <a:xfrm>
            <a:off x="4932360" y="4940280"/>
            <a:ext cx="3240000" cy="1873080"/>
            <a:chOff x="4932360" y="4940280"/>
            <a:chExt cx="3240000" cy="1873080"/>
          </a:xfrm>
        </p:grpSpPr>
        <p:sp>
          <p:nvSpPr>
            <p:cNvPr id="131" name="Rectangle 4"/>
            <p:cNvSpPr/>
            <p:nvPr/>
          </p:nvSpPr>
          <p:spPr>
            <a:xfrm>
              <a:off x="4932360" y="4940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 flipV="1">
              <a:off x="5292720" y="5229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 flipV="1">
              <a:off x="6300720" y="508392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 flipV="1">
              <a:off x="6732720" y="551664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 flipV="1">
              <a:off x="7596360" y="515628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 flipV="1">
              <a:off x="7596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 flipV="1">
              <a:off x="7380360" y="5804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 flipV="1">
              <a:off x="6948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flipV="1">
              <a:off x="6516720" y="6020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 flipV="1">
              <a:off x="6084720" y="587700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 flipV="1">
              <a:off x="5580000" y="6020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 flipV="1">
              <a:off x="5869080" y="5373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 flipV="1">
              <a:off x="5219640" y="57315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 flipV="1">
              <a:off x="5148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 flipV="1">
              <a:off x="6012000" y="645228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6"/>
          <p:cNvGrpSpPr/>
          <p:nvPr/>
        </p:nvGrpSpPr>
        <p:grpSpPr>
          <a:xfrm>
            <a:off x="539640" y="1916280"/>
            <a:ext cx="3240360" cy="1873080"/>
            <a:chOff x="539640" y="1916280"/>
            <a:chExt cx="3240360" cy="1873080"/>
          </a:xfrm>
        </p:grpSpPr>
        <p:sp>
          <p:nvSpPr>
            <p:cNvPr id="147" name="Rectangle 57"/>
            <p:cNvSpPr/>
            <p:nvPr/>
          </p:nvSpPr>
          <p:spPr>
            <a:xfrm>
              <a:off x="539640" y="1916280"/>
              <a:ext cx="324036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8"/>
            <p:cNvSpPr/>
            <p:nvPr/>
          </p:nvSpPr>
          <p:spPr>
            <a:xfrm flipV="1">
              <a:off x="75564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9"/>
            <p:cNvSpPr/>
            <p:nvPr/>
          </p:nvSpPr>
          <p:spPr>
            <a:xfrm flipV="1">
              <a:off x="755640" y="27075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 flipV="1">
              <a:off x="75564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1"/>
            <p:cNvSpPr/>
            <p:nvPr/>
          </p:nvSpPr>
          <p:spPr>
            <a:xfrm flipV="1">
              <a:off x="126036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2"/>
            <p:cNvSpPr/>
            <p:nvPr/>
          </p:nvSpPr>
          <p:spPr>
            <a:xfrm flipV="1">
              <a:off x="183672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3"/>
            <p:cNvSpPr/>
            <p:nvPr/>
          </p:nvSpPr>
          <p:spPr>
            <a:xfrm flipV="1">
              <a:off x="126036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4"/>
            <p:cNvSpPr/>
            <p:nvPr/>
          </p:nvSpPr>
          <p:spPr>
            <a:xfrm flipV="1">
              <a:off x="126036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flipV="1">
              <a:off x="183672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flipV="1">
              <a:off x="183672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flipV="1">
              <a:off x="248436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flipV="1">
              <a:off x="248436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flipV="1">
              <a:off x="306072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flipV="1">
              <a:off x="306072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1"/>
            <p:cNvSpPr/>
            <p:nvPr/>
          </p:nvSpPr>
          <p:spPr>
            <a:xfrm flipV="1">
              <a:off x="248436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2"/>
            <p:cNvSpPr/>
            <p:nvPr/>
          </p:nvSpPr>
          <p:spPr>
            <a:xfrm flipV="1">
              <a:off x="306072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74"/>
          <p:cNvGrpSpPr/>
          <p:nvPr/>
        </p:nvGrpSpPr>
        <p:grpSpPr>
          <a:xfrm>
            <a:off x="4788000" y="1916280"/>
            <a:ext cx="3240000" cy="1873080"/>
            <a:chOff x="4788000" y="1916280"/>
            <a:chExt cx="3240000" cy="1873080"/>
          </a:xfrm>
        </p:grpSpPr>
        <p:sp>
          <p:nvSpPr>
            <p:cNvPr id="164" name="Rectangle 75"/>
            <p:cNvSpPr/>
            <p:nvPr/>
          </p:nvSpPr>
          <p:spPr>
            <a:xfrm>
              <a:off x="4788000" y="1916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6"/>
            <p:cNvSpPr/>
            <p:nvPr/>
          </p:nvSpPr>
          <p:spPr>
            <a:xfrm flipV="1">
              <a:off x="500364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7"/>
            <p:cNvSpPr/>
            <p:nvPr/>
          </p:nvSpPr>
          <p:spPr>
            <a:xfrm flipV="1">
              <a:off x="5003640" y="27075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8"/>
            <p:cNvSpPr/>
            <p:nvPr/>
          </p:nvSpPr>
          <p:spPr>
            <a:xfrm flipV="1">
              <a:off x="500364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9"/>
            <p:cNvSpPr/>
            <p:nvPr/>
          </p:nvSpPr>
          <p:spPr>
            <a:xfrm flipV="1">
              <a:off x="550836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0"/>
            <p:cNvSpPr/>
            <p:nvPr/>
          </p:nvSpPr>
          <p:spPr>
            <a:xfrm flipV="1">
              <a:off x="608472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1"/>
            <p:cNvSpPr/>
            <p:nvPr/>
          </p:nvSpPr>
          <p:spPr>
            <a:xfrm flipV="1">
              <a:off x="550836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2"/>
            <p:cNvSpPr/>
            <p:nvPr/>
          </p:nvSpPr>
          <p:spPr>
            <a:xfrm flipV="1">
              <a:off x="550836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3"/>
            <p:cNvSpPr/>
            <p:nvPr/>
          </p:nvSpPr>
          <p:spPr>
            <a:xfrm flipV="1">
              <a:off x="608472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4"/>
            <p:cNvSpPr/>
            <p:nvPr/>
          </p:nvSpPr>
          <p:spPr>
            <a:xfrm flipV="1">
              <a:off x="608472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5"/>
            <p:cNvSpPr/>
            <p:nvPr/>
          </p:nvSpPr>
          <p:spPr>
            <a:xfrm flipV="1">
              <a:off x="673236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6"/>
            <p:cNvSpPr/>
            <p:nvPr/>
          </p:nvSpPr>
          <p:spPr>
            <a:xfrm flipV="1">
              <a:off x="673236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7"/>
            <p:cNvSpPr/>
            <p:nvPr/>
          </p:nvSpPr>
          <p:spPr>
            <a:xfrm flipV="1">
              <a:off x="730872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8"/>
            <p:cNvSpPr/>
            <p:nvPr/>
          </p:nvSpPr>
          <p:spPr>
            <a:xfrm flipV="1">
              <a:off x="730872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9"/>
            <p:cNvSpPr/>
            <p:nvPr/>
          </p:nvSpPr>
          <p:spPr>
            <a:xfrm flipV="1">
              <a:off x="673236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0"/>
            <p:cNvSpPr/>
            <p:nvPr/>
          </p:nvSpPr>
          <p:spPr>
            <a:xfrm flipV="1">
              <a:off x="730872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1"/>
          <p:cNvGrpSpPr/>
          <p:nvPr/>
        </p:nvGrpSpPr>
        <p:grpSpPr>
          <a:xfrm>
            <a:off x="684360" y="4940280"/>
            <a:ext cx="3240000" cy="1873080"/>
            <a:chOff x="684360" y="4940280"/>
            <a:chExt cx="3240000" cy="1873080"/>
          </a:xfrm>
        </p:grpSpPr>
        <p:sp>
          <p:nvSpPr>
            <p:cNvPr id="181" name="Rectangle 92"/>
            <p:cNvSpPr/>
            <p:nvPr/>
          </p:nvSpPr>
          <p:spPr>
            <a:xfrm>
              <a:off x="684360" y="4940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3"/>
            <p:cNvSpPr/>
            <p:nvPr/>
          </p:nvSpPr>
          <p:spPr>
            <a:xfrm flipV="1">
              <a:off x="90000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4"/>
            <p:cNvSpPr/>
            <p:nvPr/>
          </p:nvSpPr>
          <p:spPr>
            <a:xfrm flipV="1">
              <a:off x="900000" y="57315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5"/>
            <p:cNvSpPr/>
            <p:nvPr/>
          </p:nvSpPr>
          <p:spPr>
            <a:xfrm flipV="1">
              <a:off x="90000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6"/>
            <p:cNvSpPr/>
            <p:nvPr/>
          </p:nvSpPr>
          <p:spPr>
            <a:xfrm flipV="1">
              <a:off x="140472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7"/>
            <p:cNvSpPr/>
            <p:nvPr/>
          </p:nvSpPr>
          <p:spPr>
            <a:xfrm flipV="1">
              <a:off x="198108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8"/>
            <p:cNvSpPr/>
            <p:nvPr/>
          </p:nvSpPr>
          <p:spPr>
            <a:xfrm flipV="1">
              <a:off x="140472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9"/>
            <p:cNvSpPr/>
            <p:nvPr/>
          </p:nvSpPr>
          <p:spPr>
            <a:xfrm flipV="1">
              <a:off x="140472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0"/>
            <p:cNvSpPr/>
            <p:nvPr/>
          </p:nvSpPr>
          <p:spPr>
            <a:xfrm flipV="1">
              <a:off x="198108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1"/>
            <p:cNvSpPr/>
            <p:nvPr/>
          </p:nvSpPr>
          <p:spPr>
            <a:xfrm flipV="1">
              <a:off x="198108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2"/>
            <p:cNvSpPr/>
            <p:nvPr/>
          </p:nvSpPr>
          <p:spPr>
            <a:xfrm flipV="1">
              <a:off x="262872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 flipV="1">
              <a:off x="262872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4"/>
            <p:cNvSpPr/>
            <p:nvPr/>
          </p:nvSpPr>
          <p:spPr>
            <a:xfrm flipV="1">
              <a:off x="320508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5"/>
            <p:cNvSpPr/>
            <p:nvPr/>
          </p:nvSpPr>
          <p:spPr>
            <a:xfrm flipV="1">
              <a:off x="320508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flipV="1">
              <a:off x="262872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7"/>
            <p:cNvSpPr/>
            <p:nvPr/>
          </p:nvSpPr>
          <p:spPr>
            <a:xfrm flipV="1">
              <a:off x="320508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08"/>
          <p:cNvSpPr/>
          <p:nvPr/>
        </p:nvSpPr>
        <p:spPr>
          <a:xfrm>
            <a:off x="179280" y="119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IN QUALE CARTONCINO CI SONO Più SPAZI LIBERI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9"/>
          <p:cNvSpPr/>
          <p:nvPr/>
        </p:nvSpPr>
        <p:spPr>
          <a:xfrm>
            <a:off x="900000" y="3860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Ogni cartoncino ha la stessa quantità di spazio libe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1"/>
          <p:cNvSpPr/>
          <p:nvPr/>
        </p:nvSpPr>
        <p:spPr>
          <a:xfrm>
            <a:off x="108000" y="422100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Adesso si ha ancora la stessa quantità di spazio liber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2"/>
          <p:cNvSpPr/>
          <p:nvPr/>
        </p:nvSpPr>
        <p:spPr>
          <a:xfrm>
            <a:off x="2126520" y="287280"/>
            <a:ext cx="44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oudy Stout"/>
              </a:rPr>
              <a:t>CONSERV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3"/>
          <p:cNvSpPr/>
          <p:nvPr/>
        </p:nvSpPr>
        <p:spPr>
          <a:xfrm>
            <a:off x="838836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CLASSIFI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0" y="1125360"/>
            <a:ext cx="40388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aiandra GD"/>
              </a:rPr>
              <a:t>Il bambino è capace di creare Raggruppare degli oggetti in base alle loro analogie e diffe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7667640" y="580536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31760" y="2565360"/>
          <a:ext cx="3827520" cy="3849840"/>
        </p:xfrm>
        <a:graphic>
          <a:graphicData uri="http://schemas.openxmlformats.org/drawingml/2006/table">
            <a:tbl>
              <a:tblPr/>
              <a:tblGrid>
                <a:gridCol w="1914480"/>
                <a:gridCol w="1913040"/>
              </a:tblGrid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Oval 19"/>
          <p:cNvSpPr/>
          <p:nvPr/>
        </p:nvSpPr>
        <p:spPr>
          <a:xfrm>
            <a:off x="1403280" y="3068640"/>
            <a:ext cx="576360" cy="504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1763640" y="3573360"/>
            <a:ext cx="576360" cy="505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32000" y="2924280"/>
            <a:ext cx="576360" cy="5047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3780000" y="3645000"/>
            <a:ext cx="576000" cy="5047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3"/>
          <p:cNvSpPr/>
          <p:nvPr/>
        </p:nvSpPr>
        <p:spPr>
          <a:xfrm>
            <a:off x="1332000" y="4869000"/>
            <a:ext cx="215640" cy="215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1476360" y="5373720"/>
            <a:ext cx="216000" cy="216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5"/>
          <p:cNvSpPr/>
          <p:nvPr/>
        </p:nvSpPr>
        <p:spPr>
          <a:xfrm>
            <a:off x="1835280" y="5013360"/>
            <a:ext cx="215640" cy="216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3276720" y="4941720"/>
            <a:ext cx="21564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3419640" y="5373720"/>
            <a:ext cx="21564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8"/>
          <p:cNvSpPr/>
          <p:nvPr/>
        </p:nvSpPr>
        <p:spPr>
          <a:xfrm>
            <a:off x="3995640" y="4941720"/>
            <a:ext cx="21600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9"/>
          <p:cNvSpPr/>
          <p:nvPr/>
        </p:nvSpPr>
        <p:spPr>
          <a:xfrm>
            <a:off x="395280" y="4869000"/>
            <a:ext cx="216000" cy="21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50920" y="2997360"/>
            <a:ext cx="576000" cy="50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1"/>
          <p:cNvSpPr/>
          <p:nvPr/>
        </p:nvSpPr>
        <p:spPr>
          <a:xfrm>
            <a:off x="1258920" y="2205000"/>
            <a:ext cx="288720" cy="287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2"/>
          <p:cNvSpPr/>
          <p:nvPr/>
        </p:nvSpPr>
        <p:spPr>
          <a:xfrm>
            <a:off x="2987640" y="2205000"/>
            <a:ext cx="289080" cy="28728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5148360" y="378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Goudy Stout"/>
              </a:rPr>
              <a:t>Quanti tipi di palline ci son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mydoll-bambola-my-doll-cavallerizza"/>
          <p:cNvPicPr/>
          <p:nvPr/>
        </p:nvPicPr>
        <p:blipFill>
          <a:blip r:embed="rId1"/>
          <a:stretch/>
        </p:blipFill>
        <p:spPr>
          <a:xfrm>
            <a:off x="5796000" y="342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Goudy Stout"/>
              </a:rPr>
              <a:t>SER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Sapreste ordinare queste bambole in base alla loro altezza 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7667640" y="580536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mydoll-bambola-my-doll-cavallerizza"/>
          <p:cNvPicPr/>
          <p:nvPr/>
        </p:nvPicPr>
        <p:blipFill>
          <a:blip r:embed="rId2"/>
          <a:stretch/>
        </p:blipFill>
        <p:spPr>
          <a:xfrm>
            <a:off x="755640" y="465300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mydoll-bambola-my-doll-cavallerizza"/>
          <p:cNvPicPr/>
          <p:nvPr/>
        </p:nvPicPr>
        <p:blipFill>
          <a:blip r:embed="rId3"/>
          <a:stretch/>
        </p:blipFill>
        <p:spPr>
          <a:xfrm>
            <a:off x="2266920" y="285264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75564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203640" y="28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66764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0066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98"/>
          <p:cNvSpPr/>
          <p:nvPr/>
        </p:nvSpPr>
        <p:spPr>
          <a:xfrm>
            <a:off x="7524720" y="549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421000"/>
          <a:ext cx="6635880" cy="1584360"/>
        </p:xfrm>
        <a:graphic>
          <a:graphicData uri="http://schemas.openxmlformats.org/drawingml/2006/table">
            <a:tbl>
              <a:tblPr/>
              <a:tblGrid>
                <a:gridCol w="2211480"/>
                <a:gridCol w="2212920"/>
                <a:gridCol w="22114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2" name="Group 89"/>
          <p:cNvGrpSpPr/>
          <p:nvPr/>
        </p:nvGrpSpPr>
        <p:grpSpPr>
          <a:xfrm>
            <a:off x="4211640" y="2708280"/>
            <a:ext cx="434880" cy="1152360"/>
            <a:chOff x="4211640" y="2708280"/>
            <a:chExt cx="434880" cy="1152360"/>
          </a:xfrm>
        </p:grpSpPr>
        <p:sp>
          <p:nvSpPr>
            <p:cNvPr id="233" name="AutoShape 51"/>
            <p:cNvSpPr/>
            <p:nvPr/>
          </p:nvSpPr>
          <p:spPr>
            <a:xfrm>
              <a:off x="4211640" y="270828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2"/>
            <p:cNvSpPr/>
            <p:nvPr/>
          </p:nvSpPr>
          <p:spPr>
            <a:xfrm>
              <a:off x="4211640" y="319392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3"/>
          <p:cNvGrpSpPr/>
          <p:nvPr/>
        </p:nvGrpSpPr>
        <p:grpSpPr>
          <a:xfrm>
            <a:off x="6372360" y="2781360"/>
            <a:ext cx="434880" cy="1152360"/>
            <a:chOff x="6372360" y="2781360"/>
            <a:chExt cx="434880" cy="1152360"/>
          </a:xfrm>
        </p:grpSpPr>
        <p:sp>
          <p:nvSpPr>
            <p:cNvPr id="236" name="AutoShape 60"/>
            <p:cNvSpPr/>
            <p:nvPr/>
          </p:nvSpPr>
          <p:spPr>
            <a:xfrm>
              <a:off x="6372360" y="2781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61"/>
            <p:cNvSpPr/>
            <p:nvPr/>
          </p:nvSpPr>
          <p:spPr>
            <a:xfrm>
              <a:off x="6372360" y="326700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5"/>
          <p:cNvGrpSpPr/>
          <p:nvPr/>
        </p:nvGrpSpPr>
        <p:grpSpPr>
          <a:xfrm>
            <a:off x="755640" y="2781360"/>
            <a:ext cx="434880" cy="1152360"/>
            <a:chOff x="755640" y="2781360"/>
            <a:chExt cx="434880" cy="1152360"/>
          </a:xfrm>
        </p:grpSpPr>
        <p:sp>
          <p:nvSpPr>
            <p:cNvPr id="239" name="AutoShape 63"/>
            <p:cNvSpPr/>
            <p:nvPr/>
          </p:nvSpPr>
          <p:spPr>
            <a:xfrm>
              <a:off x="75564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4"/>
            <p:cNvSpPr/>
            <p:nvPr/>
          </p:nvSpPr>
          <p:spPr>
            <a:xfrm>
              <a:off x="75564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86"/>
          <p:cNvGrpSpPr/>
          <p:nvPr/>
        </p:nvGrpSpPr>
        <p:grpSpPr>
          <a:xfrm>
            <a:off x="3059280" y="2781360"/>
            <a:ext cx="434880" cy="1152360"/>
            <a:chOff x="3059280" y="2781360"/>
            <a:chExt cx="434880" cy="1152360"/>
          </a:xfrm>
        </p:grpSpPr>
        <p:sp>
          <p:nvSpPr>
            <p:cNvPr id="242" name="AutoShape 87"/>
            <p:cNvSpPr/>
            <p:nvPr/>
          </p:nvSpPr>
          <p:spPr>
            <a:xfrm>
              <a:off x="305928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88"/>
            <p:cNvSpPr/>
            <p:nvPr/>
          </p:nvSpPr>
          <p:spPr>
            <a:xfrm>
              <a:off x="305928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90"/>
          <p:cNvGrpSpPr/>
          <p:nvPr/>
        </p:nvGrpSpPr>
        <p:grpSpPr>
          <a:xfrm>
            <a:off x="5219640" y="2781360"/>
            <a:ext cx="434880" cy="1152360"/>
            <a:chOff x="5219640" y="2781360"/>
            <a:chExt cx="434880" cy="1152360"/>
          </a:xfrm>
        </p:grpSpPr>
        <p:sp>
          <p:nvSpPr>
            <p:cNvPr id="245" name="AutoShape 91"/>
            <p:cNvSpPr/>
            <p:nvPr/>
          </p:nvSpPr>
          <p:spPr>
            <a:xfrm>
              <a:off x="5219640" y="2781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2"/>
            <p:cNvSpPr/>
            <p:nvPr/>
          </p:nvSpPr>
          <p:spPr>
            <a:xfrm>
              <a:off x="521964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94"/>
          <p:cNvGrpSpPr/>
          <p:nvPr/>
        </p:nvGrpSpPr>
        <p:grpSpPr>
          <a:xfrm>
            <a:off x="2050920" y="2781360"/>
            <a:ext cx="435240" cy="1152360"/>
            <a:chOff x="2050920" y="2781360"/>
            <a:chExt cx="435240" cy="1152360"/>
          </a:xfrm>
        </p:grpSpPr>
        <p:sp>
          <p:nvSpPr>
            <p:cNvPr id="248" name="AutoShape 95"/>
            <p:cNvSpPr/>
            <p:nvPr/>
          </p:nvSpPr>
          <p:spPr>
            <a:xfrm>
              <a:off x="205092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6"/>
            <p:cNvSpPr/>
            <p:nvPr/>
          </p:nvSpPr>
          <p:spPr>
            <a:xfrm>
              <a:off x="2050920" y="3267000"/>
              <a:ext cx="43524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9"/>
          <p:cNvGrpSpPr/>
          <p:nvPr/>
        </p:nvGrpSpPr>
        <p:grpSpPr>
          <a:xfrm>
            <a:off x="8532720" y="4005360"/>
            <a:ext cx="434880" cy="1152360"/>
            <a:chOff x="8532720" y="4005360"/>
            <a:chExt cx="434880" cy="1152360"/>
          </a:xfrm>
        </p:grpSpPr>
        <p:sp>
          <p:nvSpPr>
            <p:cNvPr id="251" name="AutoShape 100"/>
            <p:cNvSpPr/>
            <p:nvPr/>
          </p:nvSpPr>
          <p:spPr>
            <a:xfrm>
              <a:off x="8532720" y="4005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1"/>
            <p:cNvSpPr/>
            <p:nvPr/>
          </p:nvSpPr>
          <p:spPr>
            <a:xfrm>
              <a:off x="8532720" y="4491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02"/>
          <p:cNvGrpSpPr/>
          <p:nvPr/>
        </p:nvGrpSpPr>
        <p:grpSpPr>
          <a:xfrm>
            <a:off x="7236000" y="4363920"/>
            <a:ext cx="434880" cy="1152720"/>
            <a:chOff x="7236000" y="4363920"/>
            <a:chExt cx="434880" cy="1152720"/>
          </a:xfrm>
        </p:grpSpPr>
        <p:sp>
          <p:nvSpPr>
            <p:cNvPr id="254" name="AutoShape 103"/>
            <p:cNvSpPr/>
            <p:nvPr/>
          </p:nvSpPr>
          <p:spPr>
            <a:xfrm>
              <a:off x="7236000" y="4363920"/>
              <a:ext cx="433440" cy="115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04"/>
            <p:cNvSpPr/>
            <p:nvPr/>
          </p:nvSpPr>
          <p:spPr>
            <a:xfrm>
              <a:off x="7236000" y="484992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05"/>
          <p:cNvGrpSpPr/>
          <p:nvPr/>
        </p:nvGrpSpPr>
        <p:grpSpPr>
          <a:xfrm>
            <a:off x="7885080" y="4149720"/>
            <a:ext cx="434880" cy="1152360"/>
            <a:chOff x="7885080" y="4149720"/>
            <a:chExt cx="434880" cy="1152360"/>
          </a:xfrm>
        </p:grpSpPr>
        <p:sp>
          <p:nvSpPr>
            <p:cNvPr id="257" name="AutoShape 106"/>
            <p:cNvSpPr/>
            <p:nvPr/>
          </p:nvSpPr>
          <p:spPr>
            <a:xfrm>
              <a:off x="7885080" y="414972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07"/>
            <p:cNvSpPr/>
            <p:nvPr/>
          </p:nvSpPr>
          <p:spPr>
            <a:xfrm>
              <a:off x="7885080" y="463536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217"/>
          <p:cNvSpPr/>
          <p:nvPr/>
        </p:nvSpPr>
        <p:spPr>
          <a:xfrm>
            <a:off x="395280" y="333360"/>
            <a:ext cx="8424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OPERAZIONI FORMALI</a:t>
            </a:r>
            <a:r>
              <a:rPr b="0" lang="it-IT" sz="2400" spc="-1" strike="noStrike">
                <a:solidFill>
                  <a:srgbClr val="000000"/>
                </a:solidFill>
                <a:latin typeface="Goudy Stout"/>
              </a:rPr>
              <a:t> 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dagli 11-12 ai 14-15 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8"/>
          <p:cNvSpPr/>
          <p:nvPr/>
        </p:nvSpPr>
        <p:spPr>
          <a:xfrm>
            <a:off x="539640" y="4581360"/>
            <a:ext cx="511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bambini, che si trovano nello stadio delle operazioni formali, iniziano a comprendere i concetti astratti e ad affrontare il mondo ipotetico e non solo quello re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Ambra Domen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Elisa Bugo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Elena Cu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Maria Luisa Ri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Gianmarco B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66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544320"/>
            <a:ext cx="86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Maiandra GD"/>
              </a:rPr>
              <a:t>Divide la struttura cognitiva in 3 fasi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pre-ope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operatorio conc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operatorio for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6600"/>
                </a:solidFill>
                <a:latin typeface="Goudy Stout"/>
              </a:rPr>
              <a:t>PERIODO PRE OPERATORI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2 – 7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Periodo Preconcettu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( 2-4 ann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Periodo Intui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( 4 – 7 ann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8265000">
            <a:off x="2195280" y="2205000"/>
            <a:ext cx="1224000" cy="720720"/>
          </a:xfrm>
          <a:prstGeom prst="rightArrow">
            <a:avLst>
              <a:gd name="adj1" fmla="val 36083"/>
              <a:gd name="adj2" fmla="val 47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 rot="2485200">
            <a:off x="5076360" y="2133720"/>
            <a:ext cx="1224000" cy="720720"/>
          </a:xfrm>
          <a:prstGeom prst="rightArrow">
            <a:avLst>
              <a:gd name="adj1" fmla="val 36083"/>
              <a:gd name="adj2" fmla="val 47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PERIODO PRECONCETTU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Concetti incompleti e illogici = preconc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Il bambino non sà che oggetti con caratteristiche simili appartengono tutti alla stessa classe, pur avendo ognuno un identità prop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Il ragionamento trasdut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Va da una cosa particolare ad altri casi particol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Non è un processo di ragionamento logico ma porta ad una risposta corret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lumaca"/>
          <p:cNvPicPr/>
          <p:nvPr/>
        </p:nvPicPr>
        <p:blipFill>
          <a:blip r:embed="rId1"/>
          <a:stretch/>
        </p:blipFill>
        <p:spPr>
          <a:xfrm>
            <a:off x="3492360" y="2060640"/>
            <a:ext cx="243360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lumaca"/>
          <p:cNvPicPr/>
          <p:nvPr/>
        </p:nvPicPr>
        <p:blipFill>
          <a:blip r:embed="rId2"/>
          <a:stretch/>
        </p:blipFill>
        <p:spPr>
          <a:xfrm>
            <a:off x="6516720" y="2205000"/>
            <a:ext cx="156852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lumaca"/>
          <p:cNvPicPr/>
          <p:nvPr/>
        </p:nvPicPr>
        <p:blipFill>
          <a:blip r:embed="rId3"/>
          <a:stretch/>
        </p:blipFill>
        <p:spPr>
          <a:xfrm>
            <a:off x="1619280" y="2349360"/>
            <a:ext cx="1568520" cy="208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908000" y="59245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aiandra GD"/>
              </a:rPr>
              <a:t>Oggetti simili vengono considerati ident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>
            <a:hlinkClick r:id="" action="ppaction://hlinkshowjump?jump=previousslide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ucca"/>
          <p:cNvPicPr/>
          <p:nvPr/>
        </p:nvPicPr>
        <p:blipFill>
          <a:blip r:embed="rId1"/>
          <a:stretch/>
        </p:blipFill>
        <p:spPr>
          <a:xfrm>
            <a:off x="5148360" y="765000"/>
            <a:ext cx="3139920" cy="324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mucca"/>
          <p:cNvPicPr/>
          <p:nvPr/>
        </p:nvPicPr>
        <p:blipFill>
          <a:blip r:embed="rId2"/>
          <a:stretch/>
        </p:blipFill>
        <p:spPr>
          <a:xfrm>
            <a:off x="133200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capra%2003"/>
          <p:cNvPicPr/>
          <p:nvPr/>
        </p:nvPicPr>
        <p:blipFill>
          <a:blip r:embed="rId3"/>
          <a:stretch/>
        </p:blipFill>
        <p:spPr>
          <a:xfrm>
            <a:off x="324000" y="4292640"/>
            <a:ext cx="258912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2700360" y="3573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Quindi B è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900000" y="83664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A da il lat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859280" y="40464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B da il la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>
            <a:hlinkClick r:id="rId4" action="ppaction://hlinksldjump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348000" y="5300640"/>
            <a:ext cx="31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Se B è una ca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Allora A non è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PERIODO INTUITIVO</a:t>
            </a: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4 – 7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Egocentrismo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 – il bambino considera la realtà solo dal suo punto di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Percezione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 – il bambino si basa sull’apparenza e sui suoi sen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3" action="ppaction://hlinksldjump"/>
              </a:rPr>
              <a:t>Incapacità di Classificare 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– il bambino non riesce a creare gerarch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4" action="ppaction://hlinksldjump"/>
              </a:rPr>
              <a:t>Intuitività 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– il bambino non riesce a risolvere dei problemi attraverso l’intuitività e l’immagin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ambolaMyDollBI031(leggera)"/>
          <p:cNvPicPr/>
          <p:nvPr/>
        </p:nvPicPr>
        <p:blipFill>
          <a:blip r:embed="rId1"/>
          <a:stretch/>
        </p:blipFill>
        <p:spPr>
          <a:xfrm>
            <a:off x="4643280" y="404640"/>
            <a:ext cx="3722760" cy="3722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ydoll-bambola-my-doll-cavallerizza"/>
          <p:cNvPicPr/>
          <p:nvPr/>
        </p:nvPicPr>
        <p:blipFill>
          <a:blip r:embed="rId2"/>
          <a:stretch/>
        </p:blipFill>
        <p:spPr>
          <a:xfrm>
            <a:off x="468360" y="112536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2843280" y="4221000"/>
            <a:ext cx="547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Una bambola femmina ed una maschio sono posti dietro uno schermo. Ognuna viene sempre fatta uscire dalla stessa parte, e quella maschio sempre per pr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Alla fine il bambino prevederà che l’altra bambola deve uscire per prima: </a:t>
            </a:r>
            <a:r>
              <a:rPr b="0" i="1" lang="it-IT" sz="1800" spc="-1" strike="noStrike">
                <a:solidFill>
                  <a:srgbClr val="000000"/>
                </a:solidFill>
                <a:latin typeface="Maiandra GD"/>
              </a:rPr>
              <a:t>“è il suo turno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>
            <a:hlinkClick r:id="" action="ppaction://hlinkshowjump?jump=previousslide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0920" y="630864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l bambino interpreta il problema solo dal suo punto di vista egocen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774072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2050920" y="1000440"/>
            <a:ext cx="2159640" cy="4085640"/>
            <a:chOff x="2050920" y="1000440"/>
            <a:chExt cx="2159640" cy="4085640"/>
          </a:xfrm>
        </p:grpSpPr>
        <p:grpSp>
          <p:nvGrpSpPr>
            <p:cNvPr id="81" name="Group 27"/>
            <p:cNvGrpSpPr/>
            <p:nvPr/>
          </p:nvGrpSpPr>
          <p:grpSpPr>
            <a:xfrm>
              <a:off x="2050920" y="1000440"/>
              <a:ext cx="2159640" cy="2644200"/>
              <a:chOff x="2050920" y="1000440"/>
              <a:chExt cx="2159640" cy="2644200"/>
            </a:xfrm>
          </p:grpSpPr>
          <p:pic>
            <p:nvPicPr>
              <p:cNvPr id="82" name="Picture 10" descr="bicchiere"/>
              <p:cNvPicPr/>
              <p:nvPr/>
            </p:nvPicPr>
            <p:blipFill>
              <a:blip r:embed="rId2"/>
              <a:stretch/>
            </p:blipFill>
            <p:spPr>
              <a:xfrm rot="17062800">
                <a:off x="3079440" y="1032840"/>
                <a:ext cx="939600" cy="11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AutoShape 17"/>
              <p:cNvSpPr/>
              <p:nvPr/>
            </p:nvSpPr>
            <p:spPr>
              <a:xfrm>
                <a:off x="2050920" y="1844640"/>
                <a:ext cx="1009440" cy="180000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18"/>
            <p:cNvSpPr/>
            <p:nvPr/>
          </p:nvSpPr>
          <p:spPr>
            <a:xfrm>
              <a:off x="2050920" y="2925720"/>
              <a:ext cx="1009440" cy="2160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9"/>
          <p:cNvGrpSpPr/>
          <p:nvPr/>
        </p:nvGrpSpPr>
        <p:grpSpPr>
          <a:xfrm>
            <a:off x="4568760" y="1576800"/>
            <a:ext cx="2668680" cy="3004560"/>
            <a:chOff x="4568760" y="1576800"/>
            <a:chExt cx="2668680" cy="3004560"/>
          </a:xfrm>
        </p:grpSpPr>
        <p:sp>
          <p:nvSpPr>
            <p:cNvPr id="86" name="AutoShape 7"/>
            <p:cNvSpPr/>
            <p:nvPr/>
          </p:nvSpPr>
          <p:spPr>
            <a:xfrm>
              <a:off x="5580000" y="2492280"/>
              <a:ext cx="1657440" cy="19447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1" descr="bicchiere"/>
            <p:cNvPicPr/>
            <p:nvPr/>
          </p:nvPicPr>
          <p:blipFill>
            <a:blip r:embed="rId3"/>
            <a:stretch/>
          </p:blipFill>
          <p:spPr>
            <a:xfrm rot="3865800">
              <a:off x="4808520" y="1680840"/>
              <a:ext cx="93960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9"/>
            <p:cNvSpPr/>
            <p:nvPr/>
          </p:nvSpPr>
          <p:spPr>
            <a:xfrm>
              <a:off x="5580000" y="3716280"/>
              <a:ext cx="1657440" cy="8650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23"/>
          <p:cNvSpPr/>
          <p:nvPr/>
        </p:nvSpPr>
        <p:spPr>
          <a:xfrm>
            <a:off x="324000" y="537372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aiandra GD"/>
              </a:rPr>
              <a:t>Versando la stessa quantità d’acqua in due recipienti diversi il bambino penserà che nel contenitore più alto ci sia più acq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24000" y="2997360"/>
            <a:ext cx="13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 “</a:t>
            </a: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o ne ho di più perché l’acqua è più alt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250920" y="630864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l bambino risponderà in relazione all’apparenza del contenit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30:56Z</dcterms:created>
  <dc:creator>Liceo Rinaldini</dc:creator>
  <dc:description/>
  <dc:language>en-US</dc:language>
  <cp:lastModifiedBy>Laura Polenta</cp:lastModifiedBy>
  <dcterms:modified xsi:type="dcterms:W3CDTF">2011-05-10T20:51:46Z</dcterms:modified>
  <cp:revision>20</cp:revision>
  <dc:subject/>
  <dc:title>PIAGET</dc:title>
</cp:coreProperties>
</file>